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BCD2-411D-4A83-9B1D-4697696F5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29CE-5770-455E-B3AA-3335E9A5B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BED6A4-1DC7-44B2-ACC8-FB1CBC41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453443-2EC5-40CF-AE4C-41911167A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89F01-3D84-4259-B7D3-48540EC11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729719-F6ED-48B0-94B4-337BEECA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9BFD2A-2713-4608-A95D-365779E66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E6F7B2-6636-42C2-A614-1833F3F60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C0FB58-314D-4C12-A9CD-FBB09A3B5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CE46F-02DB-47D5-BC4B-C70A625EE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B7EABD-7462-4DBB-8550-0AEB3CE47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521DFE-69B5-40E8-8991-B2D6DE18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B354-DB29-49A6-981E-9624876DE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95DE44-5AC8-4337-BEEA-96F13745D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52EF18-CC5F-4F1E-8117-912CE8FFE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4C620C-6368-4EEE-9C7A-4E1C5932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FCDBD-6B4A-48A2-AC20-4DE69EE93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F51F9-7FF9-4AFC-98C9-CDA62F59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A96C31-3E23-4C25-9B76-E1AF84A06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21AD70-B4BB-4E4B-A4D6-0E6CC5AFD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16ABA47-DD36-42AE-B831-6B6C721C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91553F-CEAA-4666-B8D6-A38A3CDFD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1425E-A333-4157-A572-AEA89C9F5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713-055C-4E51-B249-6EED65CF1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555CFF-13A2-4DEC-918E-16D277F35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82406-6045-4D63-A825-187C6684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E24248-34CF-4207-BBF6-A7161B773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5FB2FD-B45A-4CBB-BE23-32E54838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89B7F3-6108-4A3A-BB03-70891317E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E3DCB-BB24-4DA9-8AD1-71FD1E8A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5E895-AFA8-4040-ABFA-A6083A6E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E0BA7E-392A-4135-976E-16894B013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F1B1B6-6C16-40C0-A45F-2B836A1F9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C9DED-15B8-4558-BF8D-12616E27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DE760-D027-4FC3-94D9-AD39D65AD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750E46-8ECF-4FF6-AAA3-762B3922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666465-269C-4804-B1C4-4ACE2BC75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9C2802-4432-4C43-A849-668C4AC86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F3C1EC-4EB8-4B12-A7D3-CC055825C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0F1CC9-9DA3-42FD-9295-C7FEFE03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A134F0-49AF-4CA2-BB1E-373CA452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22004-2C51-4D4E-8EF6-17220C88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F1096E-EE70-4663-80ED-B16E551A8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4CC071-B6DC-44DD-B1C1-F4D1BD31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CBAB35-2FF5-407D-816C-52280119B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0A262-36C1-4F2D-A65A-EC1C85D8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984A5B-2AF7-4CCE-839B-32EA1531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935FBF-6BB2-48D2-8949-930CB374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8B8A79-744E-49E9-9CC0-37E6C069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4759E8-6F78-4F49-8D0E-C858DF97D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B5A9A-FF44-4F4E-808F-3032D1337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29813-7B50-4C62-83A9-5B0D6C04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1510B-D816-42BA-8321-76033542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538895-86F5-4B90-9A12-5897461C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90D9A-A56B-4595-9EF1-C9753FEA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EC4410-4931-4D76-952A-D2BB59C1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21252-F4F5-4911-BC49-2C55C5B9E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93C929-0BED-4422-83A2-B1B101C9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AB67CF-865A-4CA5-B15F-E4F9D5D8C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07618E-AE52-406B-A985-F26E5D12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B4F9C-082D-4606-A036-8BD115347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B02F41-0A0A-466E-BAEF-C74FF0807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65F92-E703-4EF5-A933-054CF6FD4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04A53C-3E6B-47BC-80E0-7E2E1E65C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F07DFF-7F8B-4D82-995D-C80D7E015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177CAF5-824F-434E-A1C7-7F484737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34FD74-C582-4E0C-B8D8-6FFA3885F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9D1D9-65B4-4AE6-90EB-F3202D704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CBE575-FFBE-413D-B518-DDA1BDAD0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BC2B50-CA10-4EA9-B294-B36DC66F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B66C87-56E2-482C-8A5D-13A7382E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3DF5B5-3D75-4FC3-8563-A0BE6CC5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93E724-AED4-4DC6-905E-DC04E525F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7FE954-9CE5-4A31-BD14-02E2BF12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487B95-FEEC-4A6F-AECE-6EB2AA466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405F4-FEAD-4330-A430-DCB7FF13F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1B8979-A49E-469A-A909-07F1D8981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46A429-4628-473A-9CAE-CF6291213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D9FE-89B9-4F49-8FE8-CB9ABFE9B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5E6CE-3BB0-45FF-A0A9-16587B11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9B4B65-80E0-4C79-B84E-0125F83F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2D9443-2AC0-4F07-B118-F238D03C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F13A19-F1FC-4CEC-ADF2-B3C7ADFBE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E273B-41D2-4525-98C8-202A5B04A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4AD33E-1D7D-42D7-A891-11DF22FCE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49F4B5-3F86-4558-BBE1-C81AD560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6BB027-D81D-445D-A26C-6121C4C0C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6A9383-B829-45C0-A442-18466562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BDC5EF-0836-4C4A-B86A-812DD77AC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2E615-F88C-4DAC-B706-6E14ACB9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E6919A-21F6-4072-BF5D-A8F56CF4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87249-82B9-42E5-85B3-ACC1199E3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507A32-8248-4F81-BEED-5D1452E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E7A7B-7ED2-40CA-B1C4-0CB10A407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093BCF-4126-4116-8B34-F79811FB7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570884-59D5-444E-820C-9176B1F36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1A57D-5C9F-44C9-A04A-64A323139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1D7F43-FE06-485E-8A2C-1EA2D757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5DE950-A11B-416D-97BC-542AD7AF3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501C1C5-3162-4D72-ABE7-75D1DCB6B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53F5A-906F-4C66-8541-B47956226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32ECDA-3482-4E4C-960F-5B8EE3C7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32F433-A989-4BAC-8140-D0AE39C8A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0F783A-A686-4EAA-974E-6586CD2A5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E30CD0-A7D4-4FE7-910B-03B09EE7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4351B2-4F82-4843-A157-DAB6C9808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A3C305-1698-4FA6-8FA6-39612B49D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8DA96-1DA6-4383-9DB8-34E0A9130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58C06C-A551-4CD8-99FA-A1297CC0E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0A7A8E-8832-4CE0-9AC7-E1CFE1B05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BADAE6-69B2-4D28-9882-570B5892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33A2-3CE4-4466-BD54-1AE4E3A40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7C054-157A-42D2-A4B3-0025564C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8B3E40-A437-4158-80D5-F393C60C9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4CCD63-03A6-4BF3-827B-ACC7B5BB2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87D291-067D-4619-8BDD-22283E81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A90E0D-F41F-47C8-93E2-D1F034C8A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3120F2-811D-40F8-BB80-7B82D9A08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AE694-8ED9-43E5-B9A4-A7694C5AB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D5824E-EBE9-4E30-8774-70F3FBCA5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1F3D39-07A2-4322-909A-774DC93BE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0ADDC47-9DB8-402B-A80D-FC4359599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81BE3-53C5-41E1-990B-1E62DAFC8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A32C3-C2E5-4389-8168-A6573C2D8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9131AC-E415-4111-BEC4-0921498A6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C71729-874F-4507-902C-2E96637A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599F17-28AA-4460-A1C3-5FC69110B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A26C6C-ECC1-4B97-A573-87D976B5B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4B02BC-0B2A-4D0B-B24B-ADCDACA20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33AF59-BAD2-42E0-A723-2C9285DE9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8CE9818-37F8-48E6-98F4-395ADA51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2EA3F7-83D0-4446-AB09-26D6EAB1C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98219D-C7D8-442E-9E05-AE0EDBB4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A04895-A18B-4DE0-A065-3BF051996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3F76-9A4B-4ECE-AFBC-5BD7E081D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2179A1B-C7D1-43E8-AE93-1695A9F4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9DE296-305A-48E4-8F8A-4EB181D50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7413C3-BA19-4E2A-AB9E-981A554FE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45D1FD8-B1DB-4E12-897B-0A691B167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10A45F-C596-43BE-8B70-6A9F6C79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E9BE73C-8B50-4991-865A-D29CD35F4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3C9BB6-F2AB-4632-A0E8-9570D69A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77D392-A27A-4325-A3E8-58BB82A5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9406A6-6800-4127-A16B-A7302D7F2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9A6E690-7856-4046-BCFC-CC91DF216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E4BCA-1D4A-4E27-AD5B-BD9AD7CF2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24E2E-8E49-4663-ABFA-73E9DE119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14DF8D0-641D-488C-A7FF-8F7E6E6EF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3D8855-E496-4BAB-B9A1-815576723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4928B3-C16F-46CB-907B-371A2C81F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A33C4C2-A24E-4835-89E0-6BB86471F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EBC1F-FA28-4A73-AD39-5655F411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CC6CD6-634A-4A2A-BC91-E585ABEC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AE6284-E88E-4A98-8C8D-5FAE4983B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066ED7-1BA4-421B-B668-5D81DB46C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BD7C1A-9978-4D9C-8749-B661D0EA8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FFB19-0685-4BD7-AA29-ADC9A5486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1F22D6-1B89-429F-9D4E-50999B07E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685C6CD-0DBB-49A5-AEAC-CD7B0C57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ACF8D3E-98E4-4196-8EA5-5F728B15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95D34-90B2-451A-8B7A-1D6EE1F96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315BC4-D0E2-43D4-A65F-97A374AAC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BD9F5F-25BC-4346-9D00-E3A4BFCC9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692CDB-2EE0-4BCF-B690-B2685CF04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6B4F2C1-830A-4E06-8470-155DBA9C8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6F54BF-901B-4EFA-9045-BA7513E82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4426BF-0A08-4CD7-8A41-5821E404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0EC24-9CAF-4A37-9EB5-F70524A06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42390C-A922-4145-8C4A-CA5D55693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CFC5C2-2791-468A-90B2-112C92AB8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45D71C-CAD2-4148-9C1F-4A7AB242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FCBF13-F140-45CA-B372-882E36434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6CF46B-6CDD-4EBF-B1B8-BE84FE877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8A4309-6F2E-4250-8846-AA4ADB54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66F31D-A03C-4B25-A0C4-7D816298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83B6E7C-0727-420C-8179-17BCA8D0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C6879A-8D1B-41A6-9AB2-096E5472F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684DB42-29E1-433F-B0B4-597ADB7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0C27D-A33A-465C-81F4-04A0CC633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264C6E-1216-470A-80E9-EEB7A0E7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E49686-A620-4DBC-81FD-C6CE2F2A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279B9E-89D2-4D01-BA33-11B740C5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2CDC1A-2B38-4B4D-B449-20187CDD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80C15E-E27D-47B9-AEA7-79C9DBBE4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AFB4EB8-DB67-4607-9E4D-5E77F2F7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5A2421-F93B-4E1F-AF75-753C270B9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81DDBB-F1F3-4B80-AD6E-0B0EBD902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8B8AD-5C4A-45B9-BC25-FFA535822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82E41EA-4676-40B9-B1A6-3E1F284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3F3BCB-3347-487A-87D4-C7CACC962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0F5591-EF62-45CA-9012-1CE7317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4C5324-6623-4F5D-98D5-0A9C8058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8EE078D-9889-4FEC-9502-BD4146A8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34D6A5-5C29-41FA-8312-F6E7BB6C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FB91BF-4EE2-49A2-979E-30B75F8B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04732D9-4664-4263-943B-D120CD125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081047-5325-4DC7-9625-C54A2D166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0869BED-B414-4705-BBC8-B359B94AA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A24BD47-9EE5-411B-98BD-30642749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77B37FB-A831-4AA7-BC58-8B7374E06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3F238-A2B9-4A8B-A88E-5E13FF958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964BD0-009A-41BC-A775-82BC8B928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8FBB1D-EBF0-4047-B690-B09CAE769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02E4BA-A11E-4AFB-BA3C-9424C83B0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6091F78-E8B1-498C-B80D-C799645F2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07DEC0-C15D-420B-93AE-AFAC410B5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1E1447-8EE9-4DE5-8822-4DE522BB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7A3092-8543-49F1-B694-A29F2D7DB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659DD74-A915-4BBB-BD18-A118ED68D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B216F16-4026-418E-BD78-8DAF1871F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115A8A-11BA-4114-BBBC-C996AC6EE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1419C-9799-4A3B-B72D-29724CC40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D4B9A9-3D36-4F80-A789-4C6A1F27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4A44FC-EC04-4C6D-8080-549BE2073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89806E0-FB50-4041-B240-75669153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F120851-3370-4DDB-8824-5BD78EBC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5971AA2-E062-4B41-BAEB-A9ACCFBA0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38200E-E737-40CE-839E-01863F6A1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D223B31-EBCE-4AEF-96F3-1D4E7F62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F929AB2-9E45-4009-A974-61BE6E3FC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8CC3BFA-25CB-42E9-A624-D89525517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7B46E3F-0FAC-417B-A0E2-081A43FCA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4B08-2133-4E39-B1E2-895D3440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39F1A-4FE6-4D57-A8AD-64CC34EF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747582-6829-43E5-9ED9-2E3E2465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A1AA43-0119-4406-AE24-C57AEECBD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231D9E-BB35-4518-82AE-54B041C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5139CA6-122A-4974-96AF-D065F0C98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FDDC96-7B60-476A-99C4-E63C7F9B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4C82EA-D00F-4FEB-961A-064562D06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CB648A2-89CE-4767-839F-CD53590C4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9F4663-DA40-4560-A411-754D40E49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B20E05-5DC2-4FEE-BB39-CC273051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D094501-0DF0-41F9-A75B-9EFE84938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93D90C-233D-42DB-82A2-D4154475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54278C-FC20-41A8-84FD-55D626D1B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447FE71-01D9-43C1-A9BF-D0E755461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6F58D8E-B110-49EC-812D-9C8CA77D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AE501B-31AA-487A-B895-3F62B00A7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8E02F8-B046-465D-BF8B-5F85D5BF2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7EB2527-ED92-43FB-B4C6-24F757292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735433-5714-44E9-BF34-35F38002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D28BDA4-3537-4BCE-9D3E-C7C01BC3A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934100A-76C7-4461-8A7C-8E2E00A2B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515FD87-DB68-47BE-81EB-8392AD577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41277-F44A-4575-9395-31D2E9E3E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AC85BC6-E6E8-40AD-A6E5-74EA529E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AAF2890-0F89-42BF-B501-BC7DAF41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629BAB6-039C-478C-A257-8BC7E6908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3F6B2A-80F6-4269-9203-D8B29E12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58F45-B919-435F-84BE-01962518F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C93AD26-C8CC-4EB8-BA36-6BE3D8728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D8A3C7D-B338-4F27-898A-7D0B77E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6986E2B-2EFA-4340-8081-7712D857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A01772-D1F7-4B76-BC22-4CF9E7B86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30FA542-C5EC-4BFA-B21D-70FFFD664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BACBC-FA55-4902-B60A-BCC9113D9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A0574F-071C-4F4D-83DF-3FD36053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410016-0522-4CCE-A0CB-28655D599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114040-585E-4157-B55F-E9F482F9A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D366E2D-7CB7-41E3-9A9A-598ED8D8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FBF6BE-5CC1-4037-BEE3-8028A0028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7801C7-F160-43C2-89E8-88C9CC22D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A5E590-8309-49E3-93A9-B3DAFE137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DB061-0182-46FE-850F-C0ECCFF3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7459632-23E1-441E-BB12-F0C2AC4EC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EF67B75-7060-4E9C-B51A-7CA2FC882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5A90B-09BC-4E78-B152-5A002037D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2FD643-8DB7-4D49-B187-09F309E61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AB1ED1-9FDE-43B7-B73B-4C3EDB9A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7D9FD3-C867-41C2-9E6D-496FC26F5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34A63D-0DFB-4900-937F-511A4238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68670E4-9F21-4C2B-8989-39EFDC87B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14E8699-14FA-4732-9B64-9DCE60ED3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6EC42A-BD55-46D0-BDDA-A6EB6CD48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85A823-AE16-44BD-B40C-BA7E5182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F47DED-C1B4-48A1-B0C4-9A9B140D8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B88AAC-49DE-439E-8489-E49683489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EAB0D1-97CA-4383-AC18-0B8EDF296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EDA1EB-9403-468D-9D50-78532DA4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B5E3291-2119-4697-B0FB-DCD65454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A70CEF1-294C-4EAB-B63A-AEB36A2C5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07AED9-8CC0-4575-87FE-79D5EEA2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7BEB29-4561-465C-A3AE-C8E623231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1029708-077C-4715-9FAF-1CFB882D9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0B1F98-5903-48E4-8D5A-843C90B08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E8B904-6C75-4621-AD91-6855BD460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2F8843E-5958-4017-AAEA-5520F5A8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114C378-081F-411E-B4A9-682E09762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52874-5BF5-41C7-89AD-0742FE7E7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D40D30B-1D9C-4D6C-B86C-A5127C2F0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B5CC53F-60BF-4A77-BB9D-A755774C1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50260BE-7930-4683-A09D-EE1AE55F0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3D82FA-93E5-455B-A75B-34E3C367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DC6F54C-9ADF-433C-A9F6-59468443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77F473F-6C0D-420C-A8C2-4AC57924D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14C7E8-17E6-493B-BA31-F824AC348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D123AE3-9287-4A4F-8B16-6E0E7AFDE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9ED2F0-5020-45CE-BAA9-A619B9F7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DB9CD7-D16A-4F89-ABF5-3A9A1A904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67EFAD-CAED-48B8-9DAC-2F5FF643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CEACC7-EB6F-46BE-82DF-1EAFA55E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EDD96C-CD9E-4145-B3A8-5BF1270E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32BD3D-BFC4-4130-8C4A-574BD953B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F01890-4923-4323-81AC-FF654287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9BB8FE-8560-4482-B929-229CA3FFB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569B-9422-45E5-AEF0-31B5A2CD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13FD4-33D9-45BC-B2AE-C028A1BE6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780A0-B27C-4A71-89C8-B80D07D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87340-FC83-4B81-BB01-2D2ACE2B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68A41D-BC49-477D-A068-CE892457C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F91C40-13C6-465E-9351-58CDA9D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EC785-473A-4D3C-9648-BD5BE67C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FB9FA2-9E33-42DB-B4F8-A8D9F4636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F245FE-9ED8-4798-BCDA-089FFFA9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B6747-CDDE-445C-AA6E-E5149A932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D03E1-5BF2-4622-9911-FA777886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214-37B5-4F27-BF6A-99BC04CF2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784509-4DA4-4D1A-AF1F-C6CB11A77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7EC97-D3AB-4FAE-BD46-74D776A25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717F7F-AAE1-42D4-B900-916B809A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ED0185-1C97-4DB4-8385-E94553B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56F15-53AA-4022-AF9E-BAD66AD48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0A8234-7AF4-446C-AC02-B2408A807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1001F-60B3-4FE9-A28A-C3AD383B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18AC9B-026E-4E80-A6BB-1CD636054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9CE1AB-8EA4-4943-84C4-9E5599FCC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0FEA2-D123-4E28-B998-FE4C88EB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4F4A-AD66-433E-94B4-CA0DCE04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1F9A7-BC10-4652-9169-2A211AD5F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C95544-CF58-4033-8D20-CF6DB2C4C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82EDB-06F2-46FA-8C28-D42A1D4D7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9EFA87-B72A-436B-84C3-B9F361939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0DE173-7F71-490F-AFEB-CA746E43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1BCDE0-CBB0-4EE6-92EB-381C8DBBF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DD0B0E-09A9-44B6-9A60-1F9D7804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6D3D48-3FCF-4601-9FA7-516B09A2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1EA84-8833-4B82-8326-383DC8CCB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958DCD-C901-4845-8C1F-B42691261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F853-B09C-4BB9-AD2C-4069FDD6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943B1B-D775-4C10-A4C0-FD69A04F3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938F3-C5A2-40A0-B4F3-1701CDB51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55A05A-F9A6-4C26-9C76-306EF2E80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0F7FB-2DEC-44B9-B549-DAC632F3F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568780-B2C0-4034-AE07-0BA6BF3D3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5D7206-8BAC-44D6-8B47-1C2D8A4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647B4D-E10A-4D7A-B801-BFE805C0F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72157B-69A2-4737-B30C-E86685316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834A3F-F827-458C-BFE4-C791FEB11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00A4E0-24AE-495C-B178-E0CED08B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A6C-E241-44AA-9721-B818A2E8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083AD4-F97F-4873-B599-86D35B4C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F97FFA-1389-4A34-AE24-82A15EC0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E7677A-5358-48FE-83E7-0B99A96C3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F342-BC8F-4C96-97C8-958B8B45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4BA54-B400-49C6-9AB3-F9716C071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998F69-4BE0-4598-9933-04E56D5E5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F98E83-9A65-4BD4-86B1-FB53BD51E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396D0F-38B2-4633-9517-52ACB8324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634D4-C4A3-4893-BF54-408F87635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CC8CEF-33C1-4DA1-9D5A-B2683A27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1BC-EDFC-43BC-8636-189F5D1B6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AA0DD-8592-47CB-9BD6-C4356E969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90CC59-FD6D-4126-8C79-DC83FC1A1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8FBB44-DF14-4A2F-AC84-C4CBAC42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B6C941-0567-43A6-9509-4CB899C6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3B3289-BD11-4DED-9153-7F003087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3B54B5-85C4-48E0-B030-CFD25212D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D7B74D-57D6-4488-8435-7E78053BC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9A1E7D-FD44-486A-9815-CA2510B2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018D04-0AD6-4A7F-8B33-2C49F94A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6CEE1-7F75-4A3E-8538-9B49A402F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E2447-ACE7-49BA-9160-3A31A91AE03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F8D5-F17A-4C1F-9A01-6D9995D1459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AF011-5ADB-4D6E-8F4E-EB0148A01E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0909E-421E-43F0-9810-395D8ACF137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D367-956E-49FA-94BE-AC3CD1E287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06B51-5E44-4EBC-88E4-331222FE06E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6D100-DC29-43A7-BF02-23CD25552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379EF-13F8-4847-A90E-79F9B9732B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63F52-BC44-47AE-929C-7BE59951793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618E6-DA70-452C-8AF7-918A4974F9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DF98-C59D-43D9-91C8-3D9BE36F3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023E5-2752-4565-8C19-9BD48C0260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94AF5-5320-4B2C-8762-6BAB31BC43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6DA9A-D6F0-49BF-8F04-137C8538FB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D546-DFCC-4E22-9F0C-ED5DB32EC6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E363-0A21-4A2F-B534-199212CA51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FA14-DA71-45B7-92A9-1AFB62787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330B-991F-4D85-A478-78148EC277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FBBB0-DD8B-4F2B-99C6-8A5FC81BAF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75CBB-D4A5-4B35-83CA-8B13914B81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1D1B-3739-4AA4-B519-7E0793B263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D98C-E3A5-4E23-8F6E-AD917201F9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56375-2718-4709-8BAF-8A8820BA4C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19F-FB35-4CAB-8386-EB1312475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8189-B53F-423C-95AE-70AF09AF5A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BAD9B-D91E-4868-861D-71F204B120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0D920-AC5D-4B6E-8CB3-CA3E094FA6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57158-5799-420A-B182-1E6D2A6957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5001D-3D78-43D2-8C8E-18B690D88D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1CE0-AD84-4153-9926-D7325A74955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DC53-1F9F-490D-AAFC-83B67597FF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0476-BA61-4CA4-8317-27DAE256DD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E12BB-9C98-48AD-A320-5289C7FE49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CDC9A-2B14-4E0B-973E-03FBD1A6AC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D7FF7-7F93-408D-B4FF-D510A94319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8FE3-F9DE-43CF-8463-BFFEC0771A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43C77-7537-4FCA-B6CA-F9252C9346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86BA4-1270-40B3-A4A2-D4D138AA14B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8D69-698D-42D7-AB2A-4958A6EFC2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A6EA0-0DDD-4C45-8CA1-29EDABC3846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2D962-21E2-4774-8BF5-6809C15275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9B94-89BA-40BC-A77D-5B2578365D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6119F-46EB-4540-8581-57AB600AD9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32278-9897-490E-8FDD-1D9B92E1B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799F5-4AC3-4017-B4B7-BFE9ABE3FF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59928-D8E4-4B42-9501-7618AEF192B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2DD6-FB6D-4210-9AB0-A78A162F45A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0DA9-6E16-49B7-91BB-F507A09810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FB7EA-45A0-4DEE-B2A7-83CEE0D7772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E3984-BF2F-4C14-97E8-96D7CA7C07D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741240" y="1173240"/>
            <a:ext cx="7610760" cy="136188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728640" y="3052800"/>
            <a:ext cx="768672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6" name="图片 132097" descr=""/>
          <p:cNvPicPr/>
          <p:nvPr/>
        </p:nvPicPr>
        <p:blipFill>
          <a:blip r:embed="rId1"/>
          <a:stretch/>
        </p:blipFill>
        <p:spPr>
          <a:xfrm>
            <a:off x="282600" y="851040"/>
            <a:ext cx="8248680" cy="5257800"/>
          </a:xfrm>
          <a:prstGeom prst="rect">
            <a:avLst/>
          </a:prstGeom>
          <a:ln w="0">
            <a:noFill/>
          </a:ln>
        </p:spPr>
      </p:pic>
      <p:pic>
        <p:nvPicPr>
          <p:cNvPr id="1377" name="图片 132098" descr=""/>
          <p:cNvPicPr/>
          <p:nvPr/>
        </p:nvPicPr>
        <p:blipFill>
          <a:blip r:embed="rId2"/>
          <a:stretch/>
        </p:blipFill>
        <p:spPr>
          <a:xfrm>
            <a:off x="1190520" y="6178680"/>
            <a:ext cx="3943440" cy="4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图片 131073" descr=""/>
          <p:cNvPicPr/>
          <p:nvPr/>
        </p:nvPicPr>
        <p:blipFill>
          <a:blip r:embed="rId1"/>
          <a:stretch/>
        </p:blipFill>
        <p:spPr>
          <a:xfrm>
            <a:off x="684360" y="841320"/>
            <a:ext cx="7819920" cy="5772240"/>
          </a:xfrm>
          <a:prstGeom prst="rect">
            <a:avLst/>
          </a:prstGeom>
          <a:ln w="0">
            <a:noFill/>
          </a:ln>
        </p:spPr>
      </p:pic>
      <p:sp>
        <p:nvSpPr>
          <p:cNvPr id="1379" name="矩形 131074"/>
          <p:cNvSpPr/>
          <p:nvPr/>
        </p:nvSpPr>
        <p:spPr>
          <a:xfrm>
            <a:off x="717480" y="190188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矩形 131075"/>
          <p:cNvSpPr/>
          <p:nvPr/>
        </p:nvSpPr>
        <p:spPr>
          <a:xfrm>
            <a:off x="687240" y="2425680"/>
            <a:ext cx="7859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31076"/>
          <p:cNvSpPr/>
          <p:nvPr/>
        </p:nvSpPr>
        <p:spPr>
          <a:xfrm>
            <a:off x="655560" y="295920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31077"/>
          <p:cNvSpPr/>
          <p:nvPr/>
        </p:nvSpPr>
        <p:spPr>
          <a:xfrm>
            <a:off x="655560" y="351324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31078"/>
          <p:cNvSpPr/>
          <p:nvPr/>
        </p:nvSpPr>
        <p:spPr>
          <a:xfrm>
            <a:off x="644400" y="4027320"/>
            <a:ext cx="785988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31079"/>
          <p:cNvSpPr/>
          <p:nvPr/>
        </p:nvSpPr>
        <p:spPr>
          <a:xfrm>
            <a:off x="665280" y="4551480"/>
            <a:ext cx="785952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31080"/>
          <p:cNvSpPr/>
          <p:nvPr/>
        </p:nvSpPr>
        <p:spPr>
          <a:xfrm>
            <a:off x="644400" y="511668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矩形 131081"/>
          <p:cNvSpPr/>
          <p:nvPr/>
        </p:nvSpPr>
        <p:spPr>
          <a:xfrm>
            <a:off x="623880" y="567072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矩形 131082"/>
          <p:cNvSpPr/>
          <p:nvPr/>
        </p:nvSpPr>
        <p:spPr>
          <a:xfrm>
            <a:off x="623880" y="6194520"/>
            <a:ext cx="785988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6" dur="1000"/>
                                        <p:tgtEl>
                                          <p:spTgt spid="1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8" name="图片 130049" descr=""/>
          <p:cNvPicPr/>
          <p:nvPr/>
        </p:nvPicPr>
        <p:blipFill>
          <a:blip r:embed="rId1"/>
          <a:stretch/>
        </p:blipFill>
        <p:spPr>
          <a:xfrm>
            <a:off x="666720" y="915840"/>
            <a:ext cx="7734240" cy="3248280"/>
          </a:xfrm>
          <a:prstGeom prst="rect">
            <a:avLst/>
          </a:prstGeom>
          <a:ln w="0">
            <a:noFill/>
          </a:ln>
        </p:spPr>
      </p:pic>
      <p:sp>
        <p:nvSpPr>
          <p:cNvPr id="1389" name="矩形 130050"/>
          <p:cNvSpPr/>
          <p:nvPr/>
        </p:nvSpPr>
        <p:spPr>
          <a:xfrm>
            <a:off x="698400" y="882720"/>
            <a:ext cx="65660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30051"/>
          <p:cNvSpPr/>
          <p:nvPr/>
        </p:nvSpPr>
        <p:spPr>
          <a:xfrm>
            <a:off x="576360" y="1447920"/>
            <a:ext cx="656568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30052"/>
          <p:cNvSpPr/>
          <p:nvPr/>
        </p:nvSpPr>
        <p:spPr>
          <a:xfrm>
            <a:off x="668160" y="1971720"/>
            <a:ext cx="8077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30053"/>
          <p:cNvSpPr/>
          <p:nvPr/>
        </p:nvSpPr>
        <p:spPr>
          <a:xfrm>
            <a:off x="565200" y="2486160"/>
            <a:ext cx="8077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矩形 130054"/>
          <p:cNvSpPr/>
          <p:nvPr/>
        </p:nvSpPr>
        <p:spPr>
          <a:xfrm>
            <a:off x="565200" y="3030480"/>
            <a:ext cx="807732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130055"/>
          <p:cNvSpPr/>
          <p:nvPr/>
        </p:nvSpPr>
        <p:spPr>
          <a:xfrm>
            <a:off x="576360" y="3554280"/>
            <a:ext cx="80769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3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8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3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8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3" dur="1000"/>
                                        <p:tgtEl>
                                          <p:spTgt spid="1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8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5" name="图片 129025" descr=""/>
          <p:cNvPicPr/>
          <p:nvPr/>
        </p:nvPicPr>
        <p:blipFill>
          <a:blip r:embed="rId1"/>
          <a:stretch/>
        </p:blipFill>
        <p:spPr>
          <a:xfrm>
            <a:off x="369720" y="793800"/>
            <a:ext cx="8048880" cy="5753160"/>
          </a:xfrm>
          <a:prstGeom prst="rect">
            <a:avLst/>
          </a:prstGeom>
          <a:ln w="0">
            <a:noFill/>
          </a:ln>
        </p:spPr>
      </p:pic>
      <p:sp>
        <p:nvSpPr>
          <p:cNvPr id="1396" name="矩形 129026"/>
          <p:cNvSpPr/>
          <p:nvPr/>
        </p:nvSpPr>
        <p:spPr>
          <a:xfrm>
            <a:off x="4500720" y="6165720"/>
            <a:ext cx="544320" cy="28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5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7" name="图片 128002" descr=""/>
          <p:cNvPicPr/>
          <p:nvPr/>
        </p:nvPicPr>
        <p:blipFill>
          <a:blip r:embed="rId1"/>
          <a:stretch/>
        </p:blipFill>
        <p:spPr>
          <a:xfrm>
            <a:off x="647640" y="819000"/>
            <a:ext cx="7848720" cy="5220000"/>
          </a:xfrm>
          <a:prstGeom prst="rect">
            <a:avLst/>
          </a:prstGeom>
          <a:ln w="0">
            <a:noFill/>
          </a:ln>
        </p:spPr>
      </p:pic>
      <p:sp>
        <p:nvSpPr>
          <p:cNvPr id="1398" name="矩形 128003"/>
          <p:cNvSpPr/>
          <p:nvPr/>
        </p:nvSpPr>
        <p:spPr>
          <a:xfrm>
            <a:off x="719280" y="4038480"/>
            <a:ext cx="544644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矩形 128004"/>
          <p:cNvSpPr/>
          <p:nvPr/>
        </p:nvSpPr>
        <p:spPr>
          <a:xfrm>
            <a:off x="585720" y="4613400"/>
            <a:ext cx="5446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矩形 128005"/>
          <p:cNvSpPr/>
          <p:nvPr/>
        </p:nvSpPr>
        <p:spPr>
          <a:xfrm>
            <a:off x="658800" y="5157720"/>
            <a:ext cx="5446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8006"/>
          <p:cNvSpPr/>
          <p:nvPr/>
        </p:nvSpPr>
        <p:spPr>
          <a:xfrm>
            <a:off x="658800" y="5711760"/>
            <a:ext cx="5446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2" dur="1000"/>
                                        <p:tgtEl>
                                          <p:spTgt spid="13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7" dur="1000"/>
                                        <p:tgtEl>
                                          <p:spTgt spid="13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2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7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2" name="图片 126977" descr=""/>
          <p:cNvPicPr/>
          <p:nvPr/>
        </p:nvPicPr>
        <p:blipFill>
          <a:blip r:embed="rId1"/>
          <a:stretch/>
        </p:blipFill>
        <p:spPr>
          <a:xfrm>
            <a:off x="811080" y="874800"/>
            <a:ext cx="7801200" cy="2009520"/>
          </a:xfrm>
          <a:prstGeom prst="rect">
            <a:avLst/>
          </a:prstGeom>
          <a:ln w="0">
            <a:noFill/>
          </a:ln>
        </p:spPr>
      </p:pic>
      <p:pic>
        <p:nvPicPr>
          <p:cNvPr id="1403" name="图片 126978" descr=""/>
          <p:cNvPicPr/>
          <p:nvPr/>
        </p:nvPicPr>
        <p:blipFill>
          <a:blip r:embed="rId2"/>
          <a:stretch/>
        </p:blipFill>
        <p:spPr>
          <a:xfrm>
            <a:off x="915840" y="3021120"/>
            <a:ext cx="7667640" cy="2085840"/>
          </a:xfrm>
          <a:prstGeom prst="rect">
            <a:avLst/>
          </a:prstGeom>
          <a:ln w="0">
            <a:noFill/>
          </a:ln>
        </p:spPr>
      </p:pic>
      <p:sp>
        <p:nvSpPr>
          <p:cNvPr id="1404" name="矩形 126979"/>
          <p:cNvSpPr/>
          <p:nvPr/>
        </p:nvSpPr>
        <p:spPr>
          <a:xfrm>
            <a:off x="770040" y="853920"/>
            <a:ext cx="2898720" cy="3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6980"/>
          <p:cNvSpPr/>
          <p:nvPr/>
        </p:nvSpPr>
        <p:spPr>
          <a:xfrm>
            <a:off x="760320" y="1409760"/>
            <a:ext cx="50785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6981"/>
          <p:cNvSpPr/>
          <p:nvPr/>
        </p:nvSpPr>
        <p:spPr>
          <a:xfrm>
            <a:off x="760320" y="1954080"/>
            <a:ext cx="79549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矩形 126982"/>
          <p:cNvSpPr/>
          <p:nvPr/>
        </p:nvSpPr>
        <p:spPr>
          <a:xfrm>
            <a:off x="739800" y="2508120"/>
            <a:ext cx="79549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矩形 126983"/>
          <p:cNvSpPr/>
          <p:nvPr/>
        </p:nvSpPr>
        <p:spPr>
          <a:xfrm>
            <a:off x="658800" y="3052800"/>
            <a:ext cx="79549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6984"/>
          <p:cNvSpPr/>
          <p:nvPr/>
        </p:nvSpPr>
        <p:spPr>
          <a:xfrm>
            <a:off x="689040" y="3595680"/>
            <a:ext cx="79549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矩形 126985"/>
          <p:cNvSpPr/>
          <p:nvPr/>
        </p:nvSpPr>
        <p:spPr>
          <a:xfrm>
            <a:off x="719280" y="4037040"/>
            <a:ext cx="7954920" cy="38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矩形 126986"/>
          <p:cNvSpPr/>
          <p:nvPr/>
        </p:nvSpPr>
        <p:spPr>
          <a:xfrm>
            <a:off x="646200" y="4643280"/>
            <a:ext cx="7954920" cy="389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4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9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4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9" dur="1000"/>
                                        <p:tgtEl>
                                          <p:spTgt spid="14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4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9" dur="1000"/>
                                        <p:tgtEl>
                                          <p:spTgt spid="1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2" name="图片 125953" descr=""/>
          <p:cNvPicPr/>
          <p:nvPr/>
        </p:nvPicPr>
        <p:blipFill>
          <a:blip r:embed="rId1"/>
          <a:stretch/>
        </p:blipFill>
        <p:spPr>
          <a:xfrm>
            <a:off x="349200" y="909720"/>
            <a:ext cx="811548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3" name="图片 124929" descr=""/>
          <p:cNvPicPr/>
          <p:nvPr/>
        </p:nvPicPr>
        <p:blipFill>
          <a:blip r:embed="rId1"/>
          <a:stretch/>
        </p:blipFill>
        <p:spPr>
          <a:xfrm>
            <a:off x="785880" y="880920"/>
            <a:ext cx="7572240" cy="509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4" name="图片 123905" descr=""/>
          <p:cNvPicPr/>
          <p:nvPr/>
        </p:nvPicPr>
        <p:blipFill>
          <a:blip r:embed="rId1"/>
          <a:stretch/>
        </p:blipFill>
        <p:spPr>
          <a:xfrm>
            <a:off x="674640" y="884160"/>
            <a:ext cx="7819920" cy="5800680"/>
          </a:xfrm>
          <a:prstGeom prst="rect">
            <a:avLst/>
          </a:prstGeom>
          <a:ln w="0">
            <a:noFill/>
          </a:ln>
        </p:spPr>
      </p:pic>
      <p:sp>
        <p:nvSpPr>
          <p:cNvPr id="1415" name="矩形 123906"/>
          <p:cNvSpPr/>
          <p:nvPr/>
        </p:nvSpPr>
        <p:spPr>
          <a:xfrm>
            <a:off x="719280" y="352440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矩形 123907"/>
          <p:cNvSpPr/>
          <p:nvPr/>
        </p:nvSpPr>
        <p:spPr>
          <a:xfrm>
            <a:off x="728640" y="407844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矩形 123908"/>
          <p:cNvSpPr/>
          <p:nvPr/>
        </p:nvSpPr>
        <p:spPr>
          <a:xfrm>
            <a:off x="717480" y="460224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矩形 123909"/>
          <p:cNvSpPr/>
          <p:nvPr/>
        </p:nvSpPr>
        <p:spPr>
          <a:xfrm>
            <a:off x="728640" y="511488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矩形 123910"/>
          <p:cNvSpPr/>
          <p:nvPr/>
        </p:nvSpPr>
        <p:spPr>
          <a:xfrm>
            <a:off x="717480" y="564984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矩形 123911"/>
          <p:cNvSpPr/>
          <p:nvPr/>
        </p:nvSpPr>
        <p:spPr>
          <a:xfrm>
            <a:off x="665280" y="6215040"/>
            <a:ext cx="793116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6" dur="1000"/>
                                        <p:tgtEl>
                                          <p:spTgt spid="1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1" dur="1000"/>
                                        <p:tgtEl>
                                          <p:spTgt spid="1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6" dur="1000"/>
                                        <p:tgtEl>
                                          <p:spTgt spid="1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1" dur="1000"/>
                                        <p:tgtEl>
                                          <p:spTgt spid="1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6" dur="1000"/>
                                        <p:tgtEl>
                                          <p:spTgt spid="1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1" dur="1000"/>
                                        <p:tgtEl>
                                          <p:spTgt spid="1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1" name="图片 122881" descr=""/>
          <p:cNvPicPr/>
          <p:nvPr/>
        </p:nvPicPr>
        <p:blipFill>
          <a:blip r:embed="rId1"/>
          <a:stretch/>
        </p:blipFill>
        <p:spPr>
          <a:xfrm>
            <a:off x="703440" y="561960"/>
            <a:ext cx="7762680" cy="6267600"/>
          </a:xfrm>
          <a:prstGeom prst="rect">
            <a:avLst/>
          </a:prstGeom>
          <a:ln w="0">
            <a:noFill/>
          </a:ln>
        </p:spPr>
      </p:pic>
      <p:sp>
        <p:nvSpPr>
          <p:cNvPr id="1422" name="矩形 122882"/>
          <p:cNvSpPr/>
          <p:nvPr/>
        </p:nvSpPr>
        <p:spPr>
          <a:xfrm>
            <a:off x="719280" y="596880"/>
            <a:ext cx="78292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矩形 122883"/>
          <p:cNvSpPr/>
          <p:nvPr/>
        </p:nvSpPr>
        <p:spPr>
          <a:xfrm>
            <a:off x="606600" y="1120680"/>
            <a:ext cx="782928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矩形 122884"/>
          <p:cNvSpPr/>
          <p:nvPr/>
        </p:nvSpPr>
        <p:spPr>
          <a:xfrm>
            <a:off x="617400" y="162396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矩形 122885"/>
          <p:cNvSpPr/>
          <p:nvPr/>
        </p:nvSpPr>
        <p:spPr>
          <a:xfrm>
            <a:off x="647640" y="217800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22886"/>
          <p:cNvSpPr/>
          <p:nvPr/>
        </p:nvSpPr>
        <p:spPr>
          <a:xfrm>
            <a:off x="658800" y="271152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矩形 122887"/>
          <p:cNvSpPr/>
          <p:nvPr/>
        </p:nvSpPr>
        <p:spPr>
          <a:xfrm>
            <a:off x="689040" y="3225960"/>
            <a:ext cx="7829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矩形 122888"/>
          <p:cNvSpPr/>
          <p:nvPr/>
        </p:nvSpPr>
        <p:spPr>
          <a:xfrm>
            <a:off x="534960" y="383076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矩形 122889"/>
          <p:cNvSpPr/>
          <p:nvPr/>
        </p:nvSpPr>
        <p:spPr>
          <a:xfrm>
            <a:off x="504720" y="432288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矩形 122890"/>
          <p:cNvSpPr/>
          <p:nvPr/>
        </p:nvSpPr>
        <p:spPr>
          <a:xfrm>
            <a:off x="504720" y="481644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矩形 122891"/>
          <p:cNvSpPr/>
          <p:nvPr/>
        </p:nvSpPr>
        <p:spPr>
          <a:xfrm>
            <a:off x="577800" y="539100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矩形 122892"/>
          <p:cNvSpPr/>
          <p:nvPr/>
        </p:nvSpPr>
        <p:spPr>
          <a:xfrm>
            <a:off x="609480" y="5915160"/>
            <a:ext cx="7829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矩形 122893"/>
          <p:cNvSpPr/>
          <p:nvPr/>
        </p:nvSpPr>
        <p:spPr>
          <a:xfrm>
            <a:off x="588960" y="6418440"/>
            <a:ext cx="7829640" cy="37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8" dur="1000"/>
                                        <p:tgtEl>
                                          <p:spTgt spid="1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3" dur="1000"/>
                                        <p:tgtEl>
                                          <p:spTgt spid="1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8" dur="10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3" dur="10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8" dur="10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3" dur="10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8" dur="10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3" dur="10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3" name="图片 140289" descr=""/>
          <p:cNvPicPr/>
          <p:nvPr/>
        </p:nvPicPr>
        <p:blipFill>
          <a:blip r:embed="rId1"/>
          <a:stretch/>
        </p:blipFill>
        <p:spPr>
          <a:xfrm>
            <a:off x="349200" y="830160"/>
            <a:ext cx="803916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39265" descr=""/>
          <p:cNvPicPr/>
          <p:nvPr/>
        </p:nvPicPr>
        <p:blipFill>
          <a:blip r:embed="rId1"/>
          <a:stretch/>
        </p:blipFill>
        <p:spPr>
          <a:xfrm>
            <a:off x="730080" y="860400"/>
            <a:ext cx="7658280" cy="4172040"/>
          </a:xfrm>
          <a:prstGeom prst="rect">
            <a:avLst/>
          </a:prstGeom>
          <a:ln w="0">
            <a:noFill/>
          </a:ln>
        </p:spPr>
      </p:pic>
      <p:sp>
        <p:nvSpPr>
          <p:cNvPr id="1335" name="矩形 139266"/>
          <p:cNvSpPr/>
          <p:nvPr/>
        </p:nvSpPr>
        <p:spPr>
          <a:xfrm>
            <a:off x="801720" y="192240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39267"/>
          <p:cNvSpPr/>
          <p:nvPr/>
        </p:nvSpPr>
        <p:spPr>
          <a:xfrm>
            <a:off x="760320" y="245592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矩形 139268"/>
          <p:cNvSpPr/>
          <p:nvPr/>
        </p:nvSpPr>
        <p:spPr>
          <a:xfrm>
            <a:off x="750960" y="300024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矩形 139269"/>
          <p:cNvSpPr/>
          <p:nvPr/>
        </p:nvSpPr>
        <p:spPr>
          <a:xfrm>
            <a:off x="679320" y="356544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矩形 139270"/>
          <p:cNvSpPr/>
          <p:nvPr/>
        </p:nvSpPr>
        <p:spPr>
          <a:xfrm>
            <a:off x="720720" y="406872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矩形 139271"/>
          <p:cNvSpPr/>
          <p:nvPr/>
        </p:nvSpPr>
        <p:spPr>
          <a:xfrm>
            <a:off x="709560" y="4572000"/>
            <a:ext cx="7748640" cy="379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1" name="图片 138241" descr=""/>
          <p:cNvPicPr/>
          <p:nvPr/>
        </p:nvPicPr>
        <p:blipFill>
          <a:blip r:embed="rId1"/>
          <a:stretch/>
        </p:blipFill>
        <p:spPr>
          <a:xfrm>
            <a:off x="754200" y="973080"/>
            <a:ext cx="7762680" cy="2524320"/>
          </a:xfrm>
          <a:prstGeom prst="rect">
            <a:avLst/>
          </a:prstGeom>
          <a:ln w="0">
            <a:noFill/>
          </a:ln>
        </p:spPr>
      </p:pic>
      <p:sp>
        <p:nvSpPr>
          <p:cNvPr id="1342" name="矩形 138242"/>
          <p:cNvSpPr/>
          <p:nvPr/>
        </p:nvSpPr>
        <p:spPr>
          <a:xfrm>
            <a:off x="698400" y="944640"/>
            <a:ext cx="81486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矩形 138243"/>
          <p:cNvSpPr/>
          <p:nvPr/>
        </p:nvSpPr>
        <p:spPr>
          <a:xfrm>
            <a:off x="698400" y="1457280"/>
            <a:ext cx="81486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矩形 138244"/>
          <p:cNvSpPr/>
          <p:nvPr/>
        </p:nvSpPr>
        <p:spPr>
          <a:xfrm>
            <a:off x="709560" y="2033640"/>
            <a:ext cx="8148600" cy="420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矩形 138245"/>
          <p:cNvSpPr/>
          <p:nvPr/>
        </p:nvSpPr>
        <p:spPr>
          <a:xfrm>
            <a:off x="730080" y="2495520"/>
            <a:ext cx="814896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矩形 138246"/>
          <p:cNvSpPr/>
          <p:nvPr/>
        </p:nvSpPr>
        <p:spPr>
          <a:xfrm>
            <a:off x="700200" y="3132000"/>
            <a:ext cx="8148600" cy="420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7217" descr=""/>
          <p:cNvPicPr/>
          <p:nvPr/>
        </p:nvPicPr>
        <p:blipFill>
          <a:blip r:embed="rId1"/>
          <a:stretch/>
        </p:blipFill>
        <p:spPr>
          <a:xfrm>
            <a:off x="441360" y="851040"/>
            <a:ext cx="81342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8" name="图片 136193" descr=""/>
          <p:cNvPicPr/>
          <p:nvPr/>
        </p:nvPicPr>
        <p:blipFill>
          <a:blip r:embed="rId1"/>
          <a:stretch/>
        </p:blipFill>
        <p:spPr>
          <a:xfrm>
            <a:off x="722160" y="851040"/>
            <a:ext cx="7801200" cy="3124080"/>
          </a:xfrm>
          <a:prstGeom prst="rect">
            <a:avLst/>
          </a:prstGeom>
          <a:ln w="0">
            <a:noFill/>
          </a:ln>
        </p:spPr>
      </p:pic>
      <p:pic>
        <p:nvPicPr>
          <p:cNvPr id="1349" name="图片 136194" descr=""/>
          <p:cNvPicPr/>
          <p:nvPr/>
        </p:nvPicPr>
        <p:blipFill>
          <a:blip r:embed="rId2"/>
          <a:stretch/>
        </p:blipFill>
        <p:spPr>
          <a:xfrm>
            <a:off x="760320" y="3984480"/>
            <a:ext cx="7648560" cy="2571840"/>
          </a:xfrm>
          <a:prstGeom prst="rect">
            <a:avLst/>
          </a:prstGeom>
          <a:ln w="0">
            <a:noFill/>
          </a:ln>
        </p:spPr>
      </p:pic>
      <p:sp>
        <p:nvSpPr>
          <p:cNvPr id="1350" name="矩形 136195"/>
          <p:cNvSpPr/>
          <p:nvPr/>
        </p:nvSpPr>
        <p:spPr>
          <a:xfrm>
            <a:off x="758880" y="833400"/>
            <a:ext cx="7953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6196"/>
          <p:cNvSpPr/>
          <p:nvPr/>
        </p:nvSpPr>
        <p:spPr>
          <a:xfrm>
            <a:off x="706320" y="1378080"/>
            <a:ext cx="7953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6197"/>
          <p:cNvSpPr/>
          <p:nvPr/>
        </p:nvSpPr>
        <p:spPr>
          <a:xfrm>
            <a:off x="706320" y="1941480"/>
            <a:ext cx="7953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6198"/>
          <p:cNvSpPr/>
          <p:nvPr/>
        </p:nvSpPr>
        <p:spPr>
          <a:xfrm>
            <a:off x="706320" y="2446200"/>
            <a:ext cx="79534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36199"/>
          <p:cNvSpPr/>
          <p:nvPr/>
        </p:nvSpPr>
        <p:spPr>
          <a:xfrm>
            <a:off x="727200" y="2917800"/>
            <a:ext cx="7953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矩形 136200"/>
          <p:cNvSpPr/>
          <p:nvPr/>
        </p:nvSpPr>
        <p:spPr>
          <a:xfrm>
            <a:off x="695160" y="3492360"/>
            <a:ext cx="7953480" cy="400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6201"/>
          <p:cNvSpPr/>
          <p:nvPr/>
        </p:nvSpPr>
        <p:spPr>
          <a:xfrm>
            <a:off x="706320" y="3986280"/>
            <a:ext cx="7953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6202"/>
          <p:cNvSpPr/>
          <p:nvPr/>
        </p:nvSpPr>
        <p:spPr>
          <a:xfrm>
            <a:off x="716040" y="4498920"/>
            <a:ext cx="7953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矩形 136203"/>
          <p:cNvSpPr/>
          <p:nvPr/>
        </p:nvSpPr>
        <p:spPr>
          <a:xfrm>
            <a:off x="684360" y="5043600"/>
            <a:ext cx="7953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矩形 136204"/>
          <p:cNvSpPr/>
          <p:nvPr/>
        </p:nvSpPr>
        <p:spPr>
          <a:xfrm>
            <a:off x="684360" y="5526000"/>
            <a:ext cx="795312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6205"/>
          <p:cNvSpPr/>
          <p:nvPr/>
        </p:nvSpPr>
        <p:spPr>
          <a:xfrm>
            <a:off x="663480" y="6143760"/>
            <a:ext cx="7953480" cy="399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1" name="图片 135169" descr=""/>
          <p:cNvPicPr/>
          <p:nvPr/>
        </p:nvPicPr>
        <p:blipFill>
          <a:blip r:embed="rId1"/>
          <a:stretch/>
        </p:blipFill>
        <p:spPr>
          <a:xfrm>
            <a:off x="430200" y="841320"/>
            <a:ext cx="818208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4145" descr=""/>
          <p:cNvPicPr/>
          <p:nvPr/>
        </p:nvPicPr>
        <p:blipFill>
          <a:blip r:embed="rId1"/>
          <a:stretch/>
        </p:blipFill>
        <p:spPr>
          <a:xfrm>
            <a:off x="660240" y="887400"/>
            <a:ext cx="7772400" cy="421956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4146"/>
          <p:cNvSpPr/>
          <p:nvPr/>
        </p:nvSpPr>
        <p:spPr>
          <a:xfrm>
            <a:off x="636480" y="884160"/>
            <a:ext cx="7942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4147"/>
          <p:cNvSpPr/>
          <p:nvPr/>
        </p:nvSpPr>
        <p:spPr>
          <a:xfrm>
            <a:off x="574560" y="1346040"/>
            <a:ext cx="7942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4148"/>
          <p:cNvSpPr/>
          <p:nvPr/>
        </p:nvSpPr>
        <p:spPr>
          <a:xfrm>
            <a:off x="574560" y="1992240"/>
            <a:ext cx="7942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4149"/>
          <p:cNvSpPr/>
          <p:nvPr/>
        </p:nvSpPr>
        <p:spPr>
          <a:xfrm>
            <a:off x="657360" y="2536920"/>
            <a:ext cx="79419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134150"/>
          <p:cNvSpPr/>
          <p:nvPr/>
        </p:nvSpPr>
        <p:spPr>
          <a:xfrm>
            <a:off x="606600" y="3049560"/>
            <a:ext cx="794196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矩形 134151"/>
          <p:cNvSpPr/>
          <p:nvPr/>
        </p:nvSpPr>
        <p:spPr>
          <a:xfrm>
            <a:off x="636480" y="3543480"/>
            <a:ext cx="7942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4152"/>
          <p:cNvSpPr/>
          <p:nvPr/>
        </p:nvSpPr>
        <p:spPr>
          <a:xfrm>
            <a:off x="574560" y="4078440"/>
            <a:ext cx="79423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4153"/>
          <p:cNvSpPr/>
          <p:nvPr/>
        </p:nvSpPr>
        <p:spPr>
          <a:xfrm>
            <a:off x="533520" y="4673520"/>
            <a:ext cx="79423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1" name="图片 133121" descr=""/>
          <p:cNvPicPr/>
          <p:nvPr/>
        </p:nvPicPr>
        <p:blipFill>
          <a:blip r:embed="rId1"/>
          <a:stretch/>
        </p:blipFill>
        <p:spPr>
          <a:xfrm>
            <a:off x="735120" y="963720"/>
            <a:ext cx="6886440" cy="2162160"/>
          </a:xfrm>
          <a:prstGeom prst="rect">
            <a:avLst/>
          </a:prstGeom>
          <a:ln w="0">
            <a:noFill/>
          </a:ln>
        </p:spPr>
      </p:pic>
      <p:sp>
        <p:nvSpPr>
          <p:cNvPr id="1372" name="矩形 133122"/>
          <p:cNvSpPr/>
          <p:nvPr/>
        </p:nvSpPr>
        <p:spPr>
          <a:xfrm>
            <a:off x="822240" y="996840"/>
            <a:ext cx="6977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矩形 133123"/>
          <p:cNvSpPr/>
          <p:nvPr/>
        </p:nvSpPr>
        <p:spPr>
          <a:xfrm>
            <a:off x="709560" y="1511280"/>
            <a:ext cx="6977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矩形 133124"/>
          <p:cNvSpPr/>
          <p:nvPr/>
        </p:nvSpPr>
        <p:spPr>
          <a:xfrm>
            <a:off x="709560" y="2046240"/>
            <a:ext cx="6977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3125"/>
          <p:cNvSpPr/>
          <p:nvPr/>
        </p:nvSpPr>
        <p:spPr>
          <a:xfrm>
            <a:off x="720720" y="2590920"/>
            <a:ext cx="697716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9" dur="1000"/>
                                        <p:tgtEl>
                                          <p:spTgt spid="1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4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9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0:31:19Z</dcterms:modified>
  <cp:revision>6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